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E8D-E81E-4B2C-BBC6-A9E2A45F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F5E-39C8-47C8-AA94-6D7B99D7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A35-1016-4475-8165-CABF14F1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B57-2737-4E65-BC1F-43100443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725-580F-4026-84FC-7903C6D5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798-4692-4499-857B-627FC1B5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2BA-84AA-4C03-9068-9C9A9E8D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E72-89BB-494B-8FCB-558552B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E8D-141B-4A69-9AA2-559C7683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2F6-3BFD-406D-ABDA-F621520C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3AC-E75C-4721-919C-041BE18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EF6-19B5-4CA8-B081-CCCA910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9009-CDD6-4842-899A-8C5BBB74FE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Arial"/>
                <a:cs typeface="????Boutros Rokaa"/>
              </a:rPr>
              <a:t>من كاس المحبّي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رَحْ شيل الأشواك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ن نفسي العطشاني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تَا حتى تلقاك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القربان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حبوب القمح لصارت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ة يسوع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لوب العالم زارت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سكنت بالضلو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وعنقود اللي جمعتو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رم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بكلمه حوَّلتو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لدمَّك يا ربي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4:42:14Z</dcterms:created>
  <dc:creator>-</dc:creator>
  <dc:description/>
  <dc:language>en-US</dc:language>
  <cp:lastModifiedBy>-</cp:lastModifiedBy>
  <dcterms:modified xsi:type="dcterms:W3CDTF">2003-04-19T14:45:09Z</dcterms:modified>
  <cp:revision>2</cp:revision>
  <dc:subject/>
  <dc:title>من كاس المحبّي قربان الفِدا عم يدخل لقلبي عا طول المدى</dc:title>
</cp:coreProperties>
</file>